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98E-4162-42E1-8C5F-250B988F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298-9F01-4EFD-98E5-DC83C127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E40-1B89-47D3-B5D3-F574A09B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080-EC88-4906-9F59-18D35C0B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DD6-2FBA-42BB-9F98-8B70F4C1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13B-203B-4827-B360-286F13CA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526-560A-4824-81CF-CF1F42ED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A84-CE1B-409A-AA87-1E929E2C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7A3-7A38-42E6-BA30-9FFB0D76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F36-CD48-4E9E-BF1B-8E011C93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B43-CAAF-485B-9263-86BEFFD7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F41-DC9D-486A-916D-2D4A949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15120"/>
            <a:ext cx="190512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387-4FD7-4A20-9FD1-AF90C2A5B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2960" y="2106720"/>
            <a:ext cx="8255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delos Lineales Generalizados (G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66080" y="5294160"/>
            <a:ext cx="14968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odelos Lineales General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66080" y="5294160"/>
            <a:ext cx="1496880" cy="11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309680" y="2208240"/>
            <a:ext cx="6818400" cy="1995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8040" y="5781600"/>
            <a:ext cx="53863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odelos Lineales General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408800" y="5551560"/>
            <a:ext cx="115416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49240" y="1700280"/>
            <a:ext cx="70628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odelos Lineales General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08800" y="5551560"/>
            <a:ext cx="1154160" cy="86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79440" y="2233440"/>
            <a:ext cx="789156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odelos Lineales General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08800" y="5551560"/>
            <a:ext cx="1154160" cy="86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8640" y="1461960"/>
            <a:ext cx="63324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odelos Lineales General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08800" y="5551560"/>
            <a:ext cx="1154160" cy="86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66880" y="2585880"/>
            <a:ext cx="82771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odelos Lineales General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408800" y="5551560"/>
            <a:ext cx="1154160" cy="86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480" y="2384280"/>
            <a:ext cx="783612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odelos Lineales General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408800" y="5551560"/>
            <a:ext cx="1154160" cy="865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42800" y="2371680"/>
            <a:ext cx="80330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1T23:09:22Z</dcterms:created>
  <dc:creator>Div. of Wildlife Conservation</dc:creator>
  <dc:description/>
  <dc:language>en-US</dc:language>
  <cp:lastModifiedBy>Marc</cp:lastModifiedBy>
  <dcterms:modified xsi:type="dcterms:W3CDTF">2009-10-24T18:34:39Z</dcterms:modified>
  <cp:revision>335</cp:revision>
  <dc:subject/>
  <dc:title>Introduction</dc:title>
</cp:coreProperties>
</file>